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EC0-1BD6-4034-8882-302ABFA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AC6-6524-4F63-BDD8-5E72754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C83-6A32-461E-BDD8-3DF2C835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C3A-2D84-467C-84C1-D363762B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2BE-AE80-408B-BD8B-CC99F67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833-8BFD-4CCC-BC93-C4EFCD38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C94-B195-4079-B055-2A0DA7EA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12C-7D19-4F85-A04F-13FE798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5FE-7CCA-4BBC-B2DF-8343393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166-55FC-4549-92D5-A8E84BE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4A4-E2E4-4EC9-A485-02DA168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800-BA1F-4BEF-BCC5-9A79ED0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F8E-CE96-4CED-A2AC-24F1AFC74B51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2590920" y="373392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6019920" y="144792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143000" y="14479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0666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1T17:51:03Z</dcterms:modified>
  <cp:revision>21</cp:revision>
  <dc:subject/>
  <dc:title>  Символика в романе Ф.М Достоевского «Преступление и наказание» </dc:title>
</cp:coreProperties>
</file>